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EB5-D8B6-4995-BF44-70044831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72B-1572-429C-A547-2AC97ED9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55A-8F11-4985-91F1-9C2F328A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25C-B413-4B5E-A475-DDF2527A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233-A84B-4A69-91EC-04E720FF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C64-1DC6-486B-9C61-3AD8EE16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28F-EA04-4D4D-BBB4-8335C527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2F1-A2D2-4FA6-890B-B8E876BA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C84-42CA-49F6-AE73-0313714F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5C2-A28B-4F6C-ADD7-957AE75B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9EF-420F-4925-AFA2-356C063B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476-EA2C-447C-B6F0-591B3ECB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1DE0-25D3-4EDE-84AE-21279D466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ETTO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PRO.VA.RE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3499920"/>
            <a:ext cx="496908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ULTATI delle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ISIS G. MARCHES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ILE - 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154320" cy="280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4840" y="5943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ANNA  TO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NUMERO DI ALLIEVI CHE SI SONO SOPRAVALU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125360"/>
            <a:ext cx="52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e allievi: 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e 1: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e 2: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2060640"/>
          <a:ext cx="7777440" cy="41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60640"/>
                    <a:ext cx="77774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A80-D323-4682-9F99-58F87731E3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PERCENTUALI MEDIE DEI RIS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11280" y="1700280"/>
          <a:ext cx="78483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78483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A55-8BCE-40E8-9F9E-793E77FA63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onfronto tra le risposte globali corrette e la media dei voti del 1^ quadrim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628640"/>
          <a:ext cx="7561440" cy="43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7561440" cy="43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184-8B0F-4D88-AE8F-3B4B90B310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onfronto tra le risposte globali corrette e la media dei voti del 1^ quadrim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1989000"/>
          <a:ext cx="8209080" cy="38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2090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065-A2CD-4654-93E2-B4ED5DDF57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488000" cy="4678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2560" y="5105520"/>
            <a:ext cx="549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7 su 24 ottengono un maggior numero di risposte corrette:               7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 su 24 ottengono un maggior numero di risposte sbagliate:              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 su 24 ottengono lo stesso numero di risposte corrette e sbagliate:   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8 su 24 rispondono a tutte le domande:                                                 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3C0-5F38-47A4-BFDA-DE707F462F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09080" cy="46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09080" cy="46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08400" y="5178600"/>
            <a:ext cx="556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6 su 21 ottengono il maggior numero di risposte corrette:                   7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3 su 21 ottengono il maggior numero di risposte sbagliate:                 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 su 21 non risponde alla maggior parte delle domande:                        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 su 21 ottiene lo stesso numero di risposte corrette e non corrette:    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 su 21 rispondono a tutte le domande:                                                 9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ABE-4EC0-4B9C-A323-9414417299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ONFRONTO TRA I RISULTATI DELLE PROVE E LA VALUTAZIONE DEL SERV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700280"/>
          <a:ext cx="792000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792000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DF1-F0A7-4070-9F7B-36AB0BF657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ONFRONTO TRA I RISULTATI DELLE PROVE E LA VALUTAZIONE DEL SERVI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9640" y="1557360"/>
          <a:ext cx="8064720" cy="45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806472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D5D-7F5C-42A1-B5EF-237E526AA8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COMPOSIZIO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UP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4842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rove sono state somministrate a due classi prime per un totale di 45 allievi (21 maschi e 24 femm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2676600"/>
            <a:ext cx="3985920" cy="293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872-3D37-463F-B2D8-DCF70DE1E6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RISULTATI GLOB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58920" y="1844640"/>
          <a:ext cx="6912000" cy="43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4640"/>
                    <a:ext cx="691200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332000" y="134136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uali di risposte corrette suddivise per fa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F29-63E1-4D9E-8A92-AF41A87C13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28600" y="228600"/>
          <a:ext cx="845964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45964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03480" y="544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7120" y="5291280"/>
            <a:ext cx="768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 su 24 risposte a tutte le domande: 12,5% (di cui 2 con maggior numero di risposte corret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 su 24  maggior numero di risposte corrette: 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 su 24 maggior numero di risposte sbagliate: 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 su 24 maggior numero di risposte omesse: 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B84-F7C3-40F2-9529-69810A2F4F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RISULTATI CLASSE 1 DISTINTI PER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990720"/>
          <a:ext cx="8001000" cy="42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00100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69720" y="5334120"/>
            <a:ext cx="8350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gior numero di risposte corrette con la prova di italiano: 12 su 24 – 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gior numero di risposte corrette con la prova di inglese: 11 su 24 – 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gior numero di risposte corrette con la prova di matematica: 1 su 24 – 4% (3 nessuna risposta corretta: 1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117-D6EB-48F4-A765-E3250F410B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ONFRONTO RISULTATI E AUTOVALUTAZIONE CLASS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219320"/>
          <a:ext cx="7056360" cy="415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05636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62120" y="5410080"/>
            <a:ext cx="693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 studenti su 24 hanno un’ autovalutazione più positiva rispetto ai risultati ottenuti- 62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 studenti su 24 ottengono risultati migliori rispetto all’ autovalutazione – 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studenti ottengono risultati equivalenti all’ autovalutazione – 8,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315-7685-4373-90BA-EE3251E8B3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8600" y="228600"/>
          <a:ext cx="853272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53272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47680" y="5138640"/>
            <a:ext cx="73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   su 21 risposte a tutte le domande:  38% (con un maggior numero di risposte corret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   su 21 maggior numero di risposte corrette: 71,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  su 21 maggior numero di risposte sbagliate: 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  su 21 stesso numero di risposte giuste e sbagliate: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585-0516-45B5-B395-23D6A04C14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RISULTATI CLASSE 2 DISTINTI PER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066680"/>
          <a:ext cx="7848720" cy="412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784872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93640" y="529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257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5334120"/>
            <a:ext cx="876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gior numero di risposte corrette con la prova di italiano:      14 su 21-     6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gior numero di risposte corrette con la prova di inglese:        5 su 21 –   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gior numero di risposte corrette con la prova di matematica: 2 su 21 -      9,5% (2 nessuna risposta corretta: 9,5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59E-11EA-42AF-9C85-5844CFC16B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ONFRONTO RISULTATI E AUTOVALUTAZIONE CLAS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480" y="1219320"/>
          <a:ext cx="7632720" cy="41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7632720" cy="41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93640" y="537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040" y="5443560"/>
            <a:ext cx="609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studenti su 21 hanno un’autovalutazione più positiva dei risultati ottenuti: 5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studenti su 21 ottengono risultati migliori rispetto all’autovalutazione: 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IS "G. MARCHESINI" - SACILE - P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6EF-6A92-4FA6-B4E9-9D3F05564A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4:47:43Z</dcterms:created>
  <dc:creator>Tonon Giannamarì</dc:creator>
  <dc:description/>
  <dc:language>en-US</dc:language>
  <cp:lastModifiedBy>Lucia Cibin</cp:lastModifiedBy>
  <dcterms:modified xsi:type="dcterms:W3CDTF">2004-11-11T09:56:56Z</dcterms:modified>
  <cp:revision>23</cp:revision>
  <dc:subject/>
  <dc:title>PROGETTO  PRO.VA.RE. </dc:title>
</cp:coreProperties>
</file>